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9E88FC-4179-4B31-B334-ACEA6E8648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52456-0F92-4FAB-8B24-6178392FC9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5F1A4E-F85A-4CE9-A39A-D3D8FBDA7A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58534-84CC-4493-B324-371EA2228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05E437-02C5-43F1-BEA3-B6E01F9424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C6E7B-60BF-45F6-8988-F5F034BBF7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4DF63E-004A-4CA2-98A6-1E4C11DA83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FAA3F-E7D9-440D-997A-EA65BFDBEF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5A3B1C-15EE-45FF-852A-702650F5C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587D42-EBF5-4418-8F5A-F5BFE98308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FBBC75-3B78-432F-B3A1-86A070CD47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0AA14-A970-4D14-9B98-4F8811C70A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6BFE56-5192-4F3B-A8F7-48477ADE0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67594-32A2-4842-8FB5-E759D5A403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1BDF68-2F0D-4585-B9DF-C9B3960552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9C6CEA-383D-48B9-9CAB-CA8E3D4EF7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17CDC2-A80B-4440-BFE7-2853748909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A6792D-7165-4E29-87C3-9F80086D9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B64E1A-EB50-4E73-BE96-0E12C394B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C0483-A394-455F-9F01-09278D4F1E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CD77D3-039B-4C55-A2E5-3EEDAD3EEC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92B36-84D9-4CFD-B8A9-4177729DD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0D4A3-F397-4094-B532-6DE49FB183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F1A05-CA5E-48DA-8982-B88122A79A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96193-3E71-4636-AE76-0DCCAD737C3E}"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10931-46F4-44AD-96AF-30487FC650A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1979640" y="2492280"/>
            <a:ext cx="504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39640" y="2492280"/>
            <a:ext cx="806472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600" spc="-1" strike="noStrike">
                <a:solidFill>
                  <a:srgbClr val="b9efee"/>
                </a:solidFill>
                <a:latin typeface="Colonna MT"/>
              </a:rPr>
              <a:t>Grupos Étnicos</a:t>
            </a:r>
            <a:r>
              <a:rPr b="0" lang="en-US" sz="5400" spc="-1" strike="noStrike">
                <a:solidFill>
                  <a:srgbClr val="ffffff"/>
                </a:solidFill>
                <a:latin typeface="Colonna MT"/>
              </a:rPr>
              <a:t> </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onsideraciones complejas</a:t>
            </a: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 el Registry of Peoples, una distinción entre dos grupos étnicos, a los que se les ha incluido en la lista por separado y a los cuales se les ha asignado un código por separado, se deriva de una larga lista de características culturales que varían en su importancia entre las culturas y sociedades humanas. Se pueden encontrar más detalles de estas características pues circulan ampliamente en diversas disciplinas académicas.</a:t>
            </a:r>
            <a:br>
              <a:rPr sz="2800"/>
            </a:br>
            <a:br>
              <a:rPr sz="2800"/>
            </a:br>
            <a:r>
              <a:rPr b="0" lang="en-US"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strategias para el evangelio</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ara los propósitos de trazar una estrategia para el evangelio, un principio clave es definir una estrategia para el segmento más numeroso etnolingüístico o grupo afín dentro del cual el evangelio puede ser extendido por medio de las redes de comunicación social “naturales”. Dondequiera que son identificadas las barreras que obstaculizarían o impedirían seguir extendiendo el evangelio, hemos identificado el límite real del segmento etnolingüístico o grupo étnico.</a:t>
            </a:r>
            <a:br>
              <a:rPr sz="2800"/>
            </a:br>
            <a:br>
              <a:rPr sz="2400"/>
            </a:br>
            <a:r>
              <a:rPr b="0" lang="es-E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dentidad étnica</a:t>
            </a:r>
            <a:endParaRPr b="1" lang="en-US" sz="4400" spc="-1" strike="noStrike">
              <a:solidFill>
                <a:srgbClr val="b9efee"/>
              </a:solidFill>
              <a:latin typeface="Garamond"/>
            </a:endParaRPr>
          </a:p>
        </p:txBody>
      </p:sp>
      <p:sp>
        <p:nvSpPr>
          <p:cNvPr id="137" name="PlaceHolder 2"/>
          <p:cNvSpPr>
            <a:spLocks noGrp="1"/>
          </p:cNvSpPr>
          <p:nvPr>
            <p:ph/>
          </p:nvPr>
        </p:nvSpPr>
        <p:spPr>
          <a:xfrm>
            <a:off x="395280" y="105264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 resumen, la identidad étnica depende mayormente en la auto identidad de un pueblo. Esto se centra en grupos relacionales y sociales, no meramente en enunciar sistemas. Además, el idioma es un factor clave en esta auto identificación grupal. </a:t>
            </a:r>
            <a:endParaRPr b="0" lang="en-US" sz="2400" spc="-1" strike="noStrike">
              <a:solidFill>
                <a:srgbClr val="ffffff"/>
              </a:solidFill>
              <a:latin typeface="Garamond"/>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8000" indent="-2880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l obrero o estratega occidental que busca acceso a un grupo dado agrega un problema cultural a esta tarea. Debido a las formas de pensamientos culturalmente occidentales, adoptamos un método de “sistemas”, que es abstracto.</a:t>
            </a:r>
            <a:endParaRPr b="0" lang="en-US" sz="2400" spc="-1" strike="noStrike">
              <a:solidFill>
                <a:srgbClr val="ffffff"/>
              </a:solidFill>
              <a:latin typeface="Garamond"/>
            </a:endParaRPr>
          </a:p>
          <a:p>
            <a:pPr marL="2880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88000" indent="-28800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omamos el nombre de un pueblo y procedemos a definir quiénes pueden ser llamados por ese nombre. Investigando las identidades de grupos étnicos en la Cuerno de África, un obrero reportaba algunos descubrimientos iniciales.</a:t>
            </a: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635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9efee"/>
                </a:solidFill>
                <a:latin typeface="Garamond"/>
              </a:rPr>
              <a:t>Investigación inductiva</a:t>
            </a:r>
            <a:endParaRPr b="1" lang="en-US" sz="3600" spc="-1" strike="noStrike">
              <a:solidFill>
                <a:srgbClr val="b9efee"/>
              </a:solidFill>
              <a:latin typeface="Garamond"/>
            </a:endParaRPr>
          </a:p>
        </p:txBody>
      </p:sp>
      <p:sp>
        <p:nvSpPr>
          <p:cNvPr id="139" name="PlaceHolder 2"/>
          <p:cNvSpPr>
            <a:spLocks noGrp="1"/>
          </p:cNvSpPr>
          <p:nvPr>
            <p:ph/>
          </p:nvPr>
        </p:nvSpPr>
        <p:spPr>
          <a:xfrm>
            <a:off x="179280" y="907920"/>
            <a:ext cx="8569440" cy="4525920"/>
          </a:xfrm>
          <a:prstGeom prst="rect">
            <a:avLst/>
          </a:prstGeom>
          <a:noFill/>
          <a:ln w="0">
            <a:noFill/>
          </a:ln>
        </p:spPr>
        <p:txBody>
          <a:bodyPr lIns="90000" rIns="90000" tIns="46800" bIns="46800" anchor="t">
            <a:normAutofit fontScale="81000"/>
          </a:bodyPr>
          <a:p>
            <a:pPr marL="277560" indent="-2775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n método inductivo sería más válido, comenzando con los individuos para determinar con quiénes se sienten relacionados. Este método comienza con las relaciones concretas y grupos sociales naturales de individuos, familias y una sociedad más grande.</a:t>
            </a:r>
            <a:endParaRPr b="0" lang="en-US" sz="2400" spc="-1" strike="noStrike">
              <a:solidFill>
                <a:srgbClr val="ffffff"/>
              </a:solidFill>
              <a:latin typeface="Garamond"/>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277560" indent="-2775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tonces, la pregunta válida es: “¿A quién se siente relacionado este individuo, esta familia o este grupo social?” ¿A qué otras familias o grupos se considera relacionado y en qué formas?</a:t>
            </a:r>
            <a:br>
              <a:rPr sz="2400"/>
            </a:br>
            <a:r>
              <a:rPr b="0" lang="en-US" sz="2400" spc="-1" strike="noStrike">
                <a:solidFill>
                  <a:srgbClr val="ffffff"/>
                </a:solidFill>
                <a:latin typeface="Garamond"/>
              </a:rPr>
              <a:t> </a:t>
            </a:r>
            <a:endParaRPr b="0" lang="en-US" sz="2400" spc="-1" strike="noStrike">
              <a:solidFill>
                <a:srgbClr val="ffffff"/>
              </a:solidFill>
              <a:latin typeface="Garamond"/>
            </a:endParaRPr>
          </a:p>
          <a:p>
            <a:pPr marL="277560" indent="-2775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s necesario preguntar (por medio de la observación, investigación y preguntas directas donde sea posible) cómo los individuos o comunidades más pequeñas se identifican comúnmente a ellos mismos. Luego, siguiendo esa senda relacional, cuál es el agrupamiento más numeroso dentro del cual éstos intercambian ideas y mantienen sus obligaciones sociales.</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24000" y="620280"/>
            <a:ext cx="8075520" cy="17859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efee"/>
                </a:solidFill>
                <a:latin typeface="Garamond"/>
              </a:rPr>
              <a:t>Grupos Étnicos</a:t>
            </a:r>
            <a:br>
              <a:rPr sz="4000"/>
            </a:br>
            <a:r>
              <a:rPr b="0" lang="en-US" sz="4000" spc="-1" strike="noStrike">
                <a:solidFill>
                  <a:srgbClr val="b9efee"/>
                </a:solidFill>
                <a:latin typeface="Garamond"/>
              </a:rPr>
              <a:t> en </a:t>
            </a:r>
            <a:br>
              <a:rPr sz="4000"/>
            </a:br>
            <a:r>
              <a:rPr b="0" lang="en-US" sz="4000" spc="-1" strike="noStrike">
                <a:solidFill>
                  <a:srgbClr val="b9efee"/>
                </a:solidFill>
                <a:latin typeface="Garamond"/>
              </a:rPr>
              <a:t>Republica Dominicana </a:t>
            </a:r>
            <a:endParaRPr b="1" lang="en-US" sz="4000" spc="-1" strike="noStrike">
              <a:solidFill>
                <a:srgbClr val="b9efee"/>
              </a:solidFill>
              <a:latin typeface="Garamond"/>
            </a:endParaRPr>
          </a:p>
        </p:txBody>
      </p:sp>
      <p:sp>
        <p:nvSpPr>
          <p:cNvPr id="141" name="PlaceHolder 2"/>
          <p:cNvSpPr>
            <a:spLocks noGrp="1"/>
          </p:cNvSpPr>
          <p:nvPr>
            <p:ph/>
          </p:nvPr>
        </p:nvSpPr>
        <p:spPr>
          <a:xfrm>
            <a:off x="611280" y="2708280"/>
            <a:ext cx="8229600" cy="3473280"/>
          </a:xfrm>
          <a:prstGeom prst="rect">
            <a:avLst/>
          </a:prstGeom>
          <a:noFill/>
          <a:ln w="0">
            <a:noFill/>
          </a:ln>
        </p:spPr>
        <p:txBody>
          <a:bodyPr lIns="90000" rIns="90000" tIns="46800" bIns="46800" anchor="t">
            <a:normAutofit fontScale="99000"/>
          </a:bodyPr>
          <a:p>
            <a:pPr marL="339480" indent="-3394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s divisiones étnicas se han estimado en un 16% blancos, 11% negro, mulato y el 73%.  Los descendientes de los primeros colonos españoles y negro de los esclavos de África Occidental constituyen las dos principales cepas racial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900000" y="-22320"/>
            <a:ext cx="6912000" cy="6880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
          <p:cNvSpPr/>
          <p:nvPr/>
        </p:nvSpPr>
        <p:spPr>
          <a:xfrm>
            <a:off x="2411280" y="333360"/>
            <a:ext cx="410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9efee"/>
                </a:solidFill>
                <a:latin typeface="Arial"/>
              </a:rPr>
              <a:t>Grupos étnicos</a:t>
            </a:r>
            <a:r>
              <a:rPr b="0" lang="en-US" sz="4400" spc="-1" strike="noStrike">
                <a:solidFill>
                  <a:srgbClr val="ffffff"/>
                </a:solidFill>
                <a:latin typeface="Arial"/>
              </a:rPr>
              <a:t>  </a:t>
            </a:r>
            <a:endParaRPr b="0" lang="en-US" sz="4400" spc="-1" strike="noStrike">
              <a:solidFill>
                <a:srgbClr val="ffffff"/>
              </a:solidFill>
              <a:latin typeface="Arial"/>
            </a:endParaRPr>
          </a:p>
        </p:txBody>
      </p:sp>
      <p:sp>
        <p:nvSpPr>
          <p:cNvPr id="118" name=""/>
          <p:cNvSpPr/>
          <p:nvPr/>
        </p:nvSpPr>
        <p:spPr>
          <a:xfrm>
            <a:off x="900000" y="1773360"/>
            <a:ext cx="756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539640" y="1197000"/>
            <a:ext cx="8209080" cy="54565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rPr>
              <a:t>Un “grupo étnico” es un grupo etnolingüístico cuyos diversos integrantes comparten una misma auto identidad. La palabra está compuesta de dos partes: etno y lingüístico. El idioma es un factor principal y dominante para identificar a un grupo étnico. Pero existen otros factores que se relacionan con una identidad étnica o la determinan.</a:t>
            </a:r>
            <a:br>
              <a:rPr sz="2200"/>
            </a:br>
            <a:br>
              <a:rPr sz="2200"/>
            </a:br>
            <a:r>
              <a:rPr b="0" lang="es-ES" sz="2200" spc="-1" strike="noStrike">
                <a:solidFill>
                  <a:srgbClr val="ffffff"/>
                </a:solidFill>
                <a:latin typeface="Arial"/>
              </a:rPr>
              <a:t>Por lo general el grupo adopta su propio nombre y existe entre los individuos que se identifican con el grupo un sentido de compartir una misma identidad. Compartir una misma historia, costumbres, identidades familiares y de clanes, al igual que reglas y prácticas matrimoniales, clasificaciones por edades y otros acuerdos sobre sus obligaciones, y patrones y reglas sobre herencias son algunos de los factores étnicos comunes que definen o distinguen a un pueblo.</a:t>
            </a:r>
            <a:br>
              <a:rPr sz="2200"/>
            </a:b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Grupos idiomáticos multiétnicos </a:t>
            </a:r>
            <a:br>
              <a:rPr sz="2400"/>
            </a:br>
            <a:r>
              <a:rPr b="0" lang="es-ES" sz="2400" spc="-1" strike="noStrike">
                <a:solidFill>
                  <a:srgbClr val="ffffff"/>
                </a:solidFill>
                <a:latin typeface="Garamond"/>
              </a:rPr>
              <a:t>Por otro lado, pueden haber distintos pueblos que hablan el mismo idioma pero se diferencian unos de otros debido a sus distintos antecedentes históricos, su endogamia, sus diversas alianzas políticas, diversos factores que causan enemistad, un nombre distinto con el que se autodenominan, lealtad a diferentes antepasados que comparten o a diferentes líderes de un grupo ancestro que tienen en común.</a:t>
            </a:r>
            <a:br>
              <a:rPr sz="2400"/>
            </a:br>
            <a:br>
              <a:rPr sz="2400"/>
            </a:br>
            <a:r>
              <a:rPr b="0" lang="es-ES" sz="2400" spc="-1" strike="noStrike">
                <a:solidFill>
                  <a:srgbClr val="ffffff"/>
                </a:solidFill>
                <a:latin typeface="Garamond"/>
              </a:rPr>
              <a:t>Un ejemplo de esto en la región oriental africana son los muchos pueblos que hablan inteligibles variedades del idioma swahili, tales como los árabes y los shirazis (afroasiáticos).</a:t>
            </a:r>
            <a:br>
              <a:rPr sz="2400"/>
            </a:br>
            <a:endParaRPr b="0" lang="en-US" sz="2400" spc="-1" strike="noStrike">
              <a:solidFill>
                <a:srgbClr val="ffffff"/>
              </a:solidFill>
              <a:latin typeface="Garamond"/>
            </a:endParaRPr>
          </a:p>
        </p:txBody>
      </p:sp>
      <p:sp>
        <p:nvSpPr>
          <p:cNvPr id="121"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Grupos étnicos multilingüísticos </a:t>
            </a:r>
            <a:endParaRPr b="1" lang="en-US" sz="4400" spc="-1" strike="noStrike">
              <a:solidFill>
                <a:srgbClr val="b9efee"/>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nemigos monolingüísticos</a:t>
            </a: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Los peores enemigos de algunos grupos étnicos son otros grupos étnicos que hablan el mismo idioma. A veces son realmente “grupos primos”. Un ejemplo que demuestra las diferencias radicales y hostiles dentro de un grupo lingüístico es Bosnia. Los tres enemigos tradicionales en el país: los serbios, los croatas y los musulmanes, hablan todos serbocroata. No obstante, los separan claras líneas divisorias relacionadas con su cultura y auto identidad. </a:t>
            </a:r>
            <a:br>
              <a:rPr sz="2400"/>
            </a:br>
            <a:br>
              <a:rPr sz="2400"/>
            </a:br>
            <a:r>
              <a:rPr b="0" lang="es-ES" sz="2400" spc="-1" strike="noStrike">
                <a:solidFill>
                  <a:srgbClr val="ffffff"/>
                </a:solidFill>
                <a:latin typeface="Garamond"/>
              </a:rPr>
              <a:t>Igualmente los habitantes tutsis y los hutus del África del Oriente Central tienen en la actualidad un mismo idioma y cultura, no obstante lo cual siguen manteniendo sus propias identidades sociales desde hace casi 2000 años.</a:t>
            </a:r>
            <a:br>
              <a:rPr sz="2400"/>
            </a:br>
            <a:br>
              <a:rPr sz="2400"/>
            </a:br>
            <a:r>
              <a:rPr b="0" lang="es-E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dioma y ubicación geográfica</a:t>
            </a: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Todas las personas en cada grupo étnico hablan un idioma y viven en una ubicación geográfica identificable. Por lo tanto, la descripción de un grupo étnico incluye al menos un idioma o al menos una ubicación geográfica.</a:t>
            </a:r>
            <a:br>
              <a:rPr sz="2400"/>
            </a:br>
            <a:br>
              <a:rPr sz="2400"/>
            </a:br>
            <a:r>
              <a:rPr b="0" lang="en-US" sz="2400" spc="-1" strike="noStrike">
                <a:solidFill>
                  <a:srgbClr val="ffffff"/>
                </a:solidFill>
                <a:latin typeface="Garamond"/>
              </a:rPr>
              <a:t>El Registry of Peoples (ROP) (Registro de pueblos) del Harvest Information System, por ejemplo, da tablas que conectan a cada entidad étnica a los idiomas principales hablados por ese grupo en todos los países donde se sabe que existen. El código ROP para cada entidad étnica brinda una identificación común que abarca idiomas y ubicaciones geográficas. </a:t>
            </a:r>
            <a:br>
              <a:rPr sz="2400"/>
            </a:b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Religión</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También se asocian una o más religiones a cualquier identificación étnica. La religión es una característica étnica principal que puede ser tan fuerte que determina un límite concreto dentro de un grupo de personas que de otra manera son idénticas, siendo, por lo tanto, suficiente razón para aparecer separadamente en un listado. Algunas bases de datos incluyen el nombre u otra información descriptiva de la religión de entidades listadas.</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Fronteras nacionales</a:t>
            </a:r>
            <a:br>
              <a:rPr sz="4000"/>
            </a:br>
            <a:endParaRPr b="1" lang="en-US" sz="40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9000"/>
          </a:bodyPr>
          <a:p>
            <a:pPr marL="305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A veces los factores políticos, sociales o económicos relacionados con fronteras de naciones o estados introducen suficientes diferencias como para distinguir dos grupos que de otra manera estarían relacionados, ocasionando que aparezcan en un listado como dos distintas entidades étnicas. (Algunos listados son exclusivamente por países, de modo que aun el mismo grupo étnico del otro lado de una frontera está listado como una entidad por separada.)</a:t>
            </a:r>
            <a:br>
              <a:rPr sz="2800"/>
            </a:br>
            <a:br>
              <a:rPr sz="24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Segmentos y estratos </a:t>
            </a:r>
            <a:br>
              <a:rPr sz="4000"/>
            </a:br>
            <a:endParaRPr b="1" lang="en-US" sz="40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bgrupos más pequeños (segmentos) pueden ser identificados en cualquiera de las entidades étnicas definidas en cualquier listado de pueblos o grupos étnicos. Además, el estrato social o las categorías (a veces denominados segmentos sociales) pueden incluir segmentos de diversos grupos étnicos y ser de utilidad para las estrategias de comunicación y de acceso cultural.</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11:25:03Z</dcterms:created>
  <dc:creator>jairo</dc:creator>
  <dc:description/>
  <dc:language>en-US</dc:language>
  <cp:lastModifiedBy>jairo</cp:lastModifiedBy>
  <dcterms:modified xsi:type="dcterms:W3CDTF">2011-03-17T12:05:10Z</dcterms:modified>
  <cp:revision>2</cp:revision>
  <dc:subject/>
  <dc:title>Diapositiva 1</dc:title>
</cp:coreProperties>
</file>